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45A-628B-4240-AF5D-A7CB8509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9F0-F6D8-460D-874C-E8173413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D24-E3EE-4EB0-B123-41DF7DAD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126-914D-4D85-9946-B6F8960F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136A-886F-41AC-9159-4D9E77D0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415F-C77B-454A-BD5E-70397754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5777-A7C3-4012-889E-51C47D78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C34B-24BA-4D5F-8993-3AE112B0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5D93-BF3F-4ACB-8D49-D6DF21C1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05BE-E33C-4A1B-AD4B-8D38FCB7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9818-2B6B-4B7D-A142-BC9FDC0D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218-A0EF-402C-8382-E32BA7CE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BA90-D7DA-4276-9632-658DBB75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2033-E23F-476C-A7C7-33AA712D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27EB-98C0-42BE-B857-D0377517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D08F-BA06-4CC6-9B31-DA6C76F4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AE11-72B1-4FF3-8728-1371196B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462-1D2F-440E-8D74-D8555249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A962-B925-4991-ACE1-4EDAB3CB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E66-3039-4909-8A5B-ED5AEC70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13A-97B3-4D48-A970-15A8CD47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CB5-AA7D-4E19-AD1C-F0D5330E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BF0-6747-491B-9638-5F213D6C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5B9-2828-45B7-B1BF-70F4D3CC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F8D8-EE59-4B49-BB7B-4495C1FD2021}" type="slidenum">
              <a:rPr b="0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C01B-1C48-46A3-B690-D17FD28A3A90}" type="slidenum">
              <a:rPr b="0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mily Dickinson(1830-1886) </a:t>
            </a:r>
            <a:br>
              <a:rPr sz="4400"/>
            </a:br>
            <a:r>
              <a:rPr b="0" lang="en-US" sz="2000" spc="-1" strike="noStrike">
                <a:solidFill>
                  <a:srgbClr val="ffff99"/>
                </a:solidFill>
                <a:latin typeface="Tahoma"/>
              </a:rPr>
              <a:t>-Her poetry relates to her life in many ways, death, religion, and nature.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y: Kylie Musselma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0080"/>
                </a:solidFill>
                <a:latin typeface="Tahoma"/>
              </a:rPr>
              <a:t>Born on December 10,1830, in Amherst, Massachusett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0080"/>
                </a:solidFill>
                <a:latin typeface="Tahoma"/>
              </a:rPr>
              <a:t>Attended Amherst Academy, and went to Mount Holyoke College for one year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008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0080"/>
                </a:solidFill>
                <a:latin typeface="Tahoma"/>
              </a:rPr>
              <a:t>Shortly after her death, her sister discovered about 900 of her poems in a box in the attic of their grandfathers house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6:30:26Z</dcterms:created>
  <dc:creator>PA Department of Education</dc:creator>
  <dc:description/>
  <dc:language>en-US</dc:language>
  <cp:lastModifiedBy>PA Department of Education</cp:lastModifiedBy>
  <dcterms:modified xsi:type="dcterms:W3CDTF">2009-02-25T16:46:08Z</dcterms:modified>
  <cp:revision>1</cp:revision>
  <dc:subject/>
  <dc:title>Emily Dickinson(1830-1886)  -Her poetry relates to her life in many ways, death, religion, and nature. </dc:title>
</cp:coreProperties>
</file>