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D22-A1FA-47D6-B9FA-D3ACAE88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2F2-454A-4D3E-A5F7-189E54D4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A34-09C6-4D3C-8906-B4C71162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660-2532-4641-9D27-7695DD53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8A28-8064-443A-B0CF-47281EEE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C553-A9A5-438A-A92F-D8158CE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ED3C-A3B4-40CE-B289-B2DCBACE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022-9008-4DD4-AEA2-C7CCA6F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A227-6EAC-4038-88C2-E2BEBCAF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38E-1130-4364-A5A0-7A388B0E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E635-BE3E-4B0C-88EE-ABBEEE4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583-7A78-430E-AE91-64A2FBD6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88F-C5AD-4A68-90F4-C6AB5EE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B37-A4B0-45BC-A756-33B3B7D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D6A-EA40-4C5E-8D54-F24B592B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4226-C0F0-474C-BBA4-4F33582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1876-D0F5-464D-8A0C-8EBC4006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1F3-A642-4BE0-AEA8-6FFC27F1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927-D02B-4269-818A-E0F8582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A0CA-F6FB-4BCF-8483-2C32F5EC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A59-6E3F-41ED-97E5-7863C1A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F61-BCC5-4D6F-9E1A-31A37A4D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115-085E-4677-9F1B-6B56206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B13-0F8C-4AAA-860F-822B10E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3FB-FAA7-4A51-A90E-BD25533AE30C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14C6-D243-4FEE-AF78-3F7BC8D5B5D7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mily Dickinson(1830-1886) </a:t>
            </a:r>
            <a:br>
              <a:rPr sz="4400"/>
            </a:b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-Her poetry relates to her life in many ways, death, religion, and nature.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y: Kylie Musselma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Born on December 10,1830, in Amherst, Massachusett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Attended Amherst Academy, and went to Mount Holyoke College for one year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0080"/>
                </a:solidFill>
                <a:latin typeface="Tahoma"/>
              </a:rPr>
              <a:t>Shortly after her death, her sister discovered about 900 of her poems in a box in the attic of their grandfathers house.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30:26Z</dcterms:created>
  <dc:creator>PA Department of Education</dc:creator>
  <dc:description/>
  <dc:language>en-US</dc:language>
  <cp:lastModifiedBy>PA Department of Education</cp:lastModifiedBy>
  <dcterms:modified xsi:type="dcterms:W3CDTF">2009-02-25T16:46:08Z</dcterms:modified>
  <cp:revision>1</cp:revision>
  <dc:subject/>
  <dc:title>Emily Dickinson(1830-1886)  -Her poetry relates to her life in many ways, death, religion, and nature. </dc:title>
</cp:coreProperties>
</file>