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27D3D-D3A7-4CD8-A091-9A17BFC9B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496B2-A587-49DA-ABA7-6D3129FF9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60320-A620-4F19-85DE-112438203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7A55A-6125-4494-A7ED-8725B3DD9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E254D-912F-4453-83E2-04C2B3772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35BBB-F436-4DB8-9970-42F660FF0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6AF5B-FAE6-4F02-A19D-255090075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AA72F-6826-4854-8943-B6D6C241E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EFB7C-3BCA-4FD8-9951-D467094C7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243EE-6EF6-4FDF-A3F4-FD52782E9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FF0DD-F9BE-48D0-ABC0-DE049C8A2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A2B00-48D0-43E6-B76B-D1868F865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125BC-3EA9-423A-8BD0-516CF8653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2F195-0FAA-447E-B810-F6D29F809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F90AD-C7BC-4022-8250-546720FCA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096E1-D980-4549-B57D-27493B5C2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9DDD1-0DB6-4B65-AB1D-8128EACCE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81B83-EF38-4DCC-A2E4-DB587420E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56E22-9AFC-48A3-A89B-CAFE7C65A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C9D82-0E49-478C-9871-8EE4BC457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F5F5C-4496-42D1-8A1F-C19669E44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5ACA1-7B11-438D-90D7-D5ACF2E47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2D4A2-88F1-4C6B-9A99-013FE70D3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F08C5-F5C0-40BB-8723-62BCB2F22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0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3e5c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3e5c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3e5c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8C3A8-69BF-400D-80C4-A355DBFBB158}" type="slidenum">
              <a:rPr b="0" lang="en-US" sz="1400" spc="-1" strike="noStrike">
                <a:solidFill>
                  <a:srgbClr val="ffff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3e5c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3e5c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3e5c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263DE-D32D-491E-8F7B-677BF6061DD7}" type="slidenum">
              <a:rPr b="0" lang="en-US" sz="1400" spc="-1" strike="noStrike">
                <a:solidFill>
                  <a:srgbClr val="ffff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00"/>
              </a:buClr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00"/>
              </a:buClr>
              <a:buFont typeface="Wingdings" charset="2"/>
              <a:buChar char="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Emily Dickinson(1830-1886) </a:t>
            </a:r>
            <a:br>
              <a:rPr sz="4400"/>
            </a:br>
            <a:r>
              <a:rPr b="0" lang="en-US" sz="2000" spc="-1" strike="noStrike">
                <a:solidFill>
                  <a:srgbClr val="ffff99"/>
                </a:solidFill>
                <a:latin typeface="Tahoma"/>
              </a:rPr>
              <a:t>-Her poetry relates to her life in many ways, death, religion, and nature.</a:t>
            </a: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By: Kylie Musselman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Background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0080"/>
                </a:solidFill>
                <a:latin typeface="Tahoma"/>
              </a:rPr>
              <a:t>Born on December 10,1830, in Amherst, Massachusetts.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0080"/>
                </a:solidFill>
                <a:latin typeface="Tahoma"/>
              </a:rPr>
              <a:t>Attended Amherst Academy, and went to Mount Holyoke College for one year.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008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0080"/>
                </a:solidFill>
                <a:latin typeface="Tahoma"/>
              </a:rPr>
              <a:t>Shortly after her death, her sister discovered about 900 of her poems in a box in the attic of their grandfathers house. 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5T16:30:26Z</dcterms:created>
  <dc:creator>PA Department of Education</dc:creator>
  <dc:description/>
  <dc:language>en-US</dc:language>
  <cp:lastModifiedBy>PA Department of Education</cp:lastModifiedBy>
  <dcterms:modified xsi:type="dcterms:W3CDTF">2009-02-25T16:46:08Z</dcterms:modified>
  <cp:revision>1</cp:revision>
  <dc:subject/>
  <dc:title>Emily Dickinson(1830-1886)  -Her poetry relates to her life in many ways, death, religion, and nature. </dc:title>
</cp:coreProperties>
</file>