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410-400E-4A15-97EE-FA05E66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F92-EE9E-4918-B364-E019DFF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439-7534-4F85-86A6-48AF81C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C9C-B27A-43E3-92C6-E565473B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1B9-DAE3-4BD5-9287-50F77471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83BC-E31A-4928-A38B-62AA7D45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B7B3-B988-448A-9421-99AA220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FA76-1B74-482B-81BA-6796EBF4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FE1-A2A7-4EFA-9EFC-CCC38A31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EFC-A71C-4DCB-AE50-918260C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70EF-AE80-4C75-A5EC-835C47C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555-10EB-43FD-B12F-67FC1A7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EF13-22EA-456F-AD21-AA67EB4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2AF-2301-4374-901E-670A85E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4430-066F-4F4A-9645-BB36F8D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BF9-64D7-4F21-8594-C0F884A3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94FC-F351-41C8-B1C9-E34464F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923-0E2C-49D4-942A-CCCB6303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161-AA71-4ABB-B79F-9CF683F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7EF-D5E7-4672-9120-8E4C7B6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F43-28FD-4203-AF70-56F48886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575-2ECF-42FF-B7A7-4454CB1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986-E643-4FF6-BDBD-DD18CA2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D8C-87F4-4D53-9E3F-8D5F463D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2CD-20D2-4365-8FE7-17653D3B2035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9DBC-B76C-420C-8DF7-E44AB19DD61E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mily Dickinson(1830-1886) </a:t>
            </a:r>
            <a:br>
              <a:rPr sz="4400"/>
            </a:b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-Her poetry relates to her life in many ways, death, religion, and nature.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: Kylie Musselm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Born on December 10,1830, in Amherst, Massachuset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Attended Amherst Academy, and went to Mount Holyoke College for one yea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Shortly after her death, her sister discovered about 900 of her poems in a box in the attic of their grandfathers house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30:26Z</dcterms:created>
  <dc:creator>PA Department of Education</dc:creator>
  <dc:description/>
  <dc:language>en-US</dc:language>
  <cp:lastModifiedBy>PA Department of Education</cp:lastModifiedBy>
  <dcterms:modified xsi:type="dcterms:W3CDTF">2009-02-25T16:46:08Z</dcterms:modified>
  <cp:revision>1</cp:revision>
  <dc:subject/>
  <dc:title>Emily Dickinson(1830-1886)  -Her poetry relates to her life in many ways, death, religion, and nature. </dc:title>
</cp:coreProperties>
</file>