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1298-202F-47FD-A1CC-FC2958E0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867-E4AF-4AAC-BB73-77DD1A07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65C-2AAB-43AB-A6DE-50E1BC1A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630E-6B37-4B10-A488-63D27801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C28-9AE5-41AE-B0A4-EE1057A2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C45-25E6-4443-8B19-C694DB65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6917-4D97-436C-A132-EA39097F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B939-66D3-4F47-9615-105E569F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DD5-8D61-4EF6-B6CF-617564D3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69D0-8FCC-4AD1-924F-E163CF82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CAD8-9E8B-4011-8F83-4255BDFA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13D-5E7F-47D7-97FD-83085DC4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ank Gothic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ank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ank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Bank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ank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Bank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ank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ank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ank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ank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ank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5FD8-C839-4F0B-83F8-43D3E0FAADB0}" type="slidenum">
              <a:rPr b="0" lang="en-US" sz="1400" spc="-1" strike="noStrike">
                <a:solidFill>
                  <a:srgbClr val="ffffff"/>
                </a:solidFill>
                <a:latin typeface="Bank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nk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Bank Gothic"/>
              </a:rPr>
              <a:t>Emily Dickinson</a:t>
            </a:r>
            <a:r>
              <a:rPr b="0" lang="en-US" sz="2000" spc="-1" strike="noStrike">
                <a:solidFill>
                  <a:srgbClr val="00ff00"/>
                </a:solidFill>
                <a:latin typeface="Bank Gothic"/>
              </a:rPr>
              <a:t> -Her poetry relates to her life in many ways, intimacy, religion, and her idea of nature.</a:t>
            </a:r>
            <a:r>
              <a:rPr b="0" lang="en-US" sz="4400" spc="-1" strike="noStrike">
                <a:solidFill>
                  <a:srgbClr val="ffff99"/>
                </a:solidFill>
                <a:latin typeface="Bank Gothic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ank Gothic"/>
              </a:rPr>
              <a:t>By: Kylie Musselman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6fc7"/>
                </a:solidFill>
                <a:latin typeface="Bank Gothic"/>
              </a:rPr>
              <a:t>Background</a:t>
            </a: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fc7"/>
                </a:solidFill>
                <a:latin typeface="Bank Gothic"/>
              </a:rPr>
              <a:t>Born on December 10,1830, in Amherst, Massachusetts.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fc7"/>
                </a:solidFill>
                <a:latin typeface="Bank Gothic"/>
              </a:rPr>
              <a:t>Attended Amherst Academy, and went to Mount Holyoke College for one year.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fc7"/>
                </a:solidFill>
                <a:latin typeface="Bank Gothic"/>
              </a:rPr>
              <a:t> </a:t>
            </a:r>
            <a:r>
              <a:rPr b="0" lang="en-US" sz="3200" spc="-1" strike="noStrike">
                <a:solidFill>
                  <a:srgbClr val="6d6fc7"/>
                </a:solidFill>
                <a:latin typeface="Bank Gothic"/>
              </a:rPr>
              <a:t>Shortly after her death, her sister discovered about 900 of her poems in a box in the attic.  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Bank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Bank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6:41:53Z</dcterms:created>
  <dc:creator>PA Department of Education</dc:creator>
  <dc:description/>
  <dc:language>en-US</dc:language>
  <cp:lastModifiedBy>PA Department of Education</cp:lastModifiedBy>
  <dcterms:modified xsi:type="dcterms:W3CDTF">2009-02-23T17:13:25Z</dcterms:modified>
  <cp:revision>1</cp:revision>
  <dc:subject/>
  <dc:title>Emily Dickinson -Her poetry relates to her life in many ways, intimacy, religion, and her idea of nature. </dc:title>
</cp:coreProperties>
</file>