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6DB-2DA5-4909-97A6-CBB98613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8A5-CA96-499F-A3FF-C1CBD39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27C-5D3B-4417-AB95-165E075B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286-35E5-4D74-A0DA-F192D3A0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F8D-6897-4C69-889D-0C002BAA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AB1-B5F5-4A20-866C-CCA1D660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B69-432F-4CD6-9599-4436051E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787-C10E-4541-BA43-1DDC137F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C61-4BED-4E70-AB55-CAD1706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6E6-E653-4BEB-B31C-35E1CF4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E44-EC94-441D-8CC9-E21E926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525-69D7-4A5F-9586-CC21909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ank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nk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Bank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4B9-F1D6-489C-B9A3-6785616906BA}" type="slidenum">
              <a:rPr b="0" lang="en-US" sz="1400" spc="-1" strike="noStrike">
                <a:solidFill>
                  <a:srgbClr val="ffffff"/>
                </a:solidFill>
                <a:latin typeface="Bank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nk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ank Gothic"/>
              </a:rPr>
              <a:t>Emily Dickinson</a:t>
            </a:r>
            <a:r>
              <a:rPr b="0" lang="en-US" sz="2000" spc="-1" strike="noStrike">
                <a:solidFill>
                  <a:srgbClr val="00ff00"/>
                </a:solidFill>
                <a:latin typeface="Bank Gothic"/>
              </a:rPr>
              <a:t> -Her poetry relates to her life in many ways, intimacy, religion, and her idea of nature.</a:t>
            </a:r>
            <a:r>
              <a:rPr b="0" lang="en-US" sz="4400" spc="-1" strike="noStrike">
                <a:solidFill>
                  <a:srgbClr val="ffff99"/>
                </a:solidFill>
                <a:latin typeface="Bank Gothic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ank Gothic"/>
              </a:rPr>
              <a:t>By: Kylie Musselman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6fc7"/>
                </a:solidFill>
                <a:latin typeface="Bank Gothic"/>
              </a:rPr>
              <a:t>Background</a:t>
            </a:r>
            <a:endParaRPr b="0" lang="en-US" sz="4400" spc="-1" strike="noStrike">
              <a:solidFill>
                <a:srgbClr val="ffff99"/>
              </a:solidFill>
              <a:latin typeface="Bank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Born on December 10,1830, in Amherst, Massachusetts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Attended Amherst Academy, and went to Mount Holyoke College for one year.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 </a:t>
            </a:r>
            <a:r>
              <a:rPr b="0" lang="en-US" sz="3200" spc="-1" strike="noStrike">
                <a:solidFill>
                  <a:srgbClr val="6d6fc7"/>
                </a:solidFill>
                <a:latin typeface="Bank Gothic"/>
              </a:rPr>
              <a:t>Shortly after her death, her sister discovered about 900 of her poems in a box in the attic.  </a:t>
            </a:r>
            <a:endParaRPr b="0" lang="en-US" sz="3200" spc="-1" strike="noStrike">
              <a:solidFill>
                <a:srgbClr val="ffffff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Bank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Bank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6:41:53Z</dcterms:created>
  <dc:creator>PA Department of Education</dc:creator>
  <dc:description/>
  <dc:language>en-US</dc:language>
  <cp:lastModifiedBy>PA Department of Education</cp:lastModifiedBy>
  <dcterms:modified xsi:type="dcterms:W3CDTF">2009-02-23T17:13:25Z</dcterms:modified>
  <cp:revision>1</cp:revision>
  <dc:subject/>
  <dc:title>Emily Dickinson -Her poetry relates to her life in many ways, intimacy, religion, and her idea of nature. </dc:title>
</cp:coreProperties>
</file>