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FB3-0036-4D27-B32B-8E2EB5D1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30E1-070D-4A85-BD4F-B3F197B9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A5E-0638-4D38-893C-1C11560C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DAC9-9D4A-478E-AAA0-74E667DD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DE24-EC3B-46B7-9C21-1B8821BF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CFEC-CCA5-4DEC-AA96-E754B3E3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6477-9821-48C9-AF32-7A3A795A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F22C-ED48-4546-A5B4-FD747AC3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32FE-262F-45A0-89C0-553BFD78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F678-E804-4C6E-9916-10972C0A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5D1-FAF4-4C5C-A310-F4789CEB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E632-3F07-453F-BAB5-8F6E96FE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ank Gothic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Bank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ank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Bank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ank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Bank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ank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ank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ank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ank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ank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673E-D025-4E1D-A11C-2E9CA14E35C6}" type="slidenum">
              <a:rPr b="0" lang="en-US" sz="1400" spc="-1" strike="noStrike">
                <a:solidFill>
                  <a:srgbClr val="ffffff"/>
                </a:solidFill>
                <a:latin typeface="Bank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nk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Bank Gothic"/>
              </a:rPr>
              <a:t>Emily Dickinson</a:t>
            </a:r>
            <a:r>
              <a:rPr b="0" lang="en-US" sz="2000" spc="-1" strike="noStrike">
                <a:solidFill>
                  <a:srgbClr val="00ff00"/>
                </a:solidFill>
                <a:latin typeface="Bank Gothic"/>
              </a:rPr>
              <a:t> -Her poetry relates to her life in many ways, intimacy, religion, and her idea of nature.</a:t>
            </a:r>
            <a:r>
              <a:rPr b="0" lang="en-US" sz="4400" spc="-1" strike="noStrike">
                <a:solidFill>
                  <a:srgbClr val="ffff99"/>
                </a:solidFill>
                <a:latin typeface="Bank Gothic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ank Gothic"/>
              </a:rPr>
              <a:t>By: Kylie Musselman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d6fc7"/>
                </a:solidFill>
                <a:latin typeface="Bank Gothic"/>
              </a:rPr>
              <a:t>Background</a:t>
            </a: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fc7"/>
                </a:solidFill>
                <a:latin typeface="Bank Gothic"/>
              </a:rPr>
              <a:t>Born on December 10,1830, in Amherst, Massachusetts.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fc7"/>
                </a:solidFill>
                <a:latin typeface="Bank Gothic"/>
              </a:rPr>
              <a:t>Attended Amherst Academy, and went to Mount Holyoke College for one year.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fc7"/>
                </a:solidFill>
                <a:latin typeface="Bank Gothic"/>
              </a:rPr>
              <a:t> </a:t>
            </a:r>
            <a:r>
              <a:rPr b="0" lang="en-US" sz="3200" spc="-1" strike="noStrike">
                <a:solidFill>
                  <a:srgbClr val="6d6fc7"/>
                </a:solidFill>
                <a:latin typeface="Bank Gothic"/>
              </a:rPr>
              <a:t>Shortly after her death, her sister discovered about 900 of her poems in a box in the attic.  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Bank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Bank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6:41:53Z</dcterms:created>
  <dc:creator>PA Department of Education</dc:creator>
  <dc:description/>
  <dc:language>en-US</dc:language>
  <cp:lastModifiedBy>PA Department of Education</cp:lastModifiedBy>
  <dcterms:modified xsi:type="dcterms:W3CDTF">2009-02-23T17:13:25Z</dcterms:modified>
  <cp:revision>1</cp:revision>
  <dc:subject/>
  <dc:title>Emily Dickinson -Her poetry relates to her life in many ways, intimacy, religion, and her idea of nature. </dc:title>
</cp:coreProperties>
</file>