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47D2-5DC6-42F1-B331-7823B4C17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Bank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0CC0-315A-4557-8BB6-99701D6C0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Bank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9A24-AC05-45FE-BF3E-6AF04AE0E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Bank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A134-7605-4462-9FD6-4E8DE0A1D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Bank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ED5D-CE99-48ED-830A-C53E250F1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Bank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308C-8DB7-4954-8924-96BD293CD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Bank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EC04-885B-4469-AAB0-7F79CA376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Bank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D321-CC14-4567-B58C-FD0DC54A5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523E-6146-48A3-ADF7-A240110DB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Bank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21F3-521E-477B-A3A2-04BF9133C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Bank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AD23-56FF-4B82-9BF9-E38AD650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Bank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9F8A-1DAD-4196-BCFA-299AFDFBA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Bank Gothic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Bank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Bank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nk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Bank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nk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Bank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nk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Bank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nk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Bank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nk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Bank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nk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Bank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nk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Bank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ank Goth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Bank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Bank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ank Gothic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Bank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Bank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A7EF6-2A87-43EE-B9DA-565B4BE6FBB0}" type="slidenum">
              <a:rPr b="0" lang="en-US" sz="1400" spc="-1" strike="noStrike">
                <a:solidFill>
                  <a:srgbClr val="ffffff"/>
                </a:solidFill>
                <a:latin typeface="Bank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ank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Bank Gothic"/>
              </a:rPr>
              <a:t>Emily Dickinson</a:t>
            </a:r>
            <a:r>
              <a:rPr b="0" lang="en-US" sz="2000" spc="-1" strike="noStrike">
                <a:solidFill>
                  <a:srgbClr val="00ff00"/>
                </a:solidFill>
                <a:latin typeface="Bank Gothic"/>
              </a:rPr>
              <a:t> -Her poetry relates to her life in many ways, intimacy, religion, and her idea of nature.</a:t>
            </a:r>
            <a:r>
              <a:rPr b="0" lang="en-US" sz="4400" spc="-1" strike="noStrike">
                <a:solidFill>
                  <a:srgbClr val="ffff99"/>
                </a:solidFill>
                <a:latin typeface="Bank Gothic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Bank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Bank Gothic"/>
              </a:rPr>
              <a:t>By: Kylie Musselman</a:t>
            </a: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d6fc7"/>
                </a:solidFill>
                <a:latin typeface="Bank Gothic"/>
              </a:rPr>
              <a:t>Background</a:t>
            </a:r>
            <a:endParaRPr b="0" lang="en-US" sz="4400" spc="-1" strike="noStrike">
              <a:solidFill>
                <a:srgbClr val="ffff99"/>
              </a:solidFill>
              <a:latin typeface="Bank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d6fc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d6fc7"/>
                </a:solidFill>
                <a:latin typeface="Bank Gothic"/>
              </a:rPr>
              <a:t>Born on December 10,1830, in Amherst, Massachusetts.</a:t>
            </a: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d6fc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d6fc7"/>
                </a:solidFill>
                <a:latin typeface="Bank Gothic"/>
              </a:rPr>
              <a:t>Attended Amherst Academy, and went to Mount Holyoke College for one year.</a:t>
            </a: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d6fc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d6fc7"/>
                </a:solidFill>
                <a:latin typeface="Bank Gothic"/>
              </a:rPr>
              <a:t> </a:t>
            </a:r>
            <a:r>
              <a:rPr b="0" lang="en-US" sz="3200" spc="-1" strike="noStrike">
                <a:solidFill>
                  <a:srgbClr val="6d6fc7"/>
                </a:solidFill>
                <a:latin typeface="Bank Gothic"/>
              </a:rPr>
              <a:t>Shortly after her death, her sister discovered about 900 of her poems in a box in the attic.  </a:t>
            </a: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Bank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Bank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6:41:53Z</dcterms:created>
  <dc:creator>PA Department of Education</dc:creator>
  <dc:description/>
  <dc:language>en-US</dc:language>
  <cp:lastModifiedBy>PA Department of Education</cp:lastModifiedBy>
  <dcterms:modified xsi:type="dcterms:W3CDTF">2009-02-23T17:13:25Z</dcterms:modified>
  <cp:revision>1</cp:revision>
  <dc:subject/>
  <dc:title>Emily Dickinson -Her poetry relates to her life in many ways, intimacy, religion, and her idea of nature. </dc:title>
</cp:coreProperties>
</file>